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48.png" ContentType="image/png"/>
  <Override PartName="/ppt/media/image11.png" ContentType="image/png"/>
  <Override PartName="/ppt/media/image19.jpeg" ContentType="image/jpeg"/>
  <Override PartName="/ppt/media/image25.png" ContentType="image/png"/>
  <Override PartName="/ppt/media/image10.jpeg" ContentType="image/jpeg"/>
  <Override PartName="/ppt/media/image27.jpeg" ContentType="image/jpeg"/>
  <Override PartName="/ppt/media/image52.png" ContentType="image/png"/>
  <Override PartName="/ppt/media/image59.png" ContentType="image/png"/>
  <Override PartName="/ppt/media/image24.jpeg" ContentType="image/jpeg"/>
  <Override PartName="/ppt/media/image71.png" ContentType="image/png"/>
  <Override PartName="/ppt/media/image51.wmf" ContentType="image/x-wmf"/>
  <Override PartName="/ppt/media/image29.png" ContentType="image/png"/>
  <Override PartName="/ppt/media/image74.jpeg" ContentType="image/jpeg"/>
  <Override PartName="/ppt/media/image73.png" ContentType="image/png"/>
  <Override PartName="/ppt/media/image70.jpeg" ContentType="image/jpeg"/>
  <Override PartName="/ppt/media/image35.png" ContentType="image/png"/>
  <Override PartName="/ppt/media/image63.png" ContentType="image/png"/>
  <Override PartName="/ppt/media/image69.png" ContentType="image/png"/>
  <Override PartName="/ppt/media/image32.png" ContentType="image/png"/>
  <Override PartName="/ppt/media/image14.png" ContentType="image/png"/>
  <Override PartName="/ppt/media/image2.png" ContentType="image/png"/>
  <Override PartName="/ppt/media/image1.jpeg" ContentType="image/jpeg"/>
  <Override PartName="/ppt/media/image22.jpeg" ContentType="image/jpeg"/>
  <Override PartName="/ppt/media/image67.png" ContentType="image/png"/>
  <Override PartName="/ppt/media/image30.png" ContentType="image/png"/>
  <Override PartName="/ppt/media/image66.png" ContentType="image/png"/>
  <Override PartName="/ppt/media/image64.png" ContentType="image/png"/>
  <Override PartName="/ppt/media/image62.png" ContentType="image/png"/>
  <Override PartName="/ppt/media/image28.jpeg" ContentType="image/jpeg"/>
  <Override PartName="/ppt/media/image60.png" ContentType="image/png"/>
  <Override PartName="/ppt/media/image21.jpeg" ContentType="image/jpeg"/>
  <Override PartName="/ppt/media/image65.png" ContentType="image/png"/>
  <Override PartName="/ppt/media/image15.png" ContentType="image/png"/>
  <Override PartName="/ppt/media/image3.png" ContentType="image/png"/>
  <Override PartName="/ppt/media/image33.png" ContentType="image/png"/>
  <Override PartName="/ppt/media/image61.png" ContentType="image/png"/>
  <Override PartName="/ppt/media/image5.jpeg" ContentType="image/jpeg"/>
  <Override PartName="/ppt/media/image50.png" ContentType="image/png"/>
  <Override PartName="/ppt/media/image26.png" ContentType="image/png"/>
  <Override PartName="/ppt/media/image8.jpeg" ContentType="image/jpeg"/>
  <Override PartName="/ppt/media/image39.jpeg" ContentType="image/jpeg"/>
  <Override PartName="/ppt/media/image17.png" ContentType="image/png"/>
  <Override PartName="/ppt/media/image9.jpeg" ContentType="image/jpe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6.png" ContentType="image/png"/>
  <Override PartName="/ppt/media/image4.png" ContentType="image/png"/>
  <Override PartName="/ppt/media/image7.jpeg" ContentType="image/jpeg"/>
  <Override PartName="/ppt/media/image38.jpeg" ContentType="image/jpeg"/>
  <Override PartName="/ppt/media/image72.png" ContentType="image/png"/>
  <Override PartName="/ppt/media/image12.png" ContentType="image/png"/>
  <Override PartName="/ppt/media/image49.png" ContentType="image/png"/>
  <Override PartName="/ppt/media/image13.png" ContentType="image/png"/>
  <Override PartName="/ppt/media/image31.png" ContentType="image/png"/>
  <Override PartName="/ppt/media/image34.jpeg" ContentType="image/jpeg"/>
  <Override PartName="/ppt/media/image3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DA887-4BAB-420E-BFFD-9FF80F179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B19579-6E77-4BE8-BDC8-FA3CEBFF9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25951-E60E-4535-AAF5-5C35F91D11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03BD6-2656-4577-94D2-C843B8A73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353022-7BC5-4810-9692-5EAE1123B0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AD8E4-C8F2-41A7-95A7-4A828685D9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1607F9-67EF-43E1-887B-53825EDFC5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FEE00B-BAA7-43DF-9F2F-0CAF7E2A9F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AC6680-649B-4365-9F4E-B8A44769F8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95918D-8546-4B33-B8B4-D85FD3AB75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03BF78-6FA3-4C5E-93E5-1DD582F424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0A0221-48C8-4B9B-8D7F-E5EDC00354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6937F-3125-464B-9FB1-E5075E604D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23720D-F3CE-420F-ADEB-B6DB7152DF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D20131-729A-4547-A7AF-511517D4E4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B4C00A-94F0-493E-8DB6-E04F7CCB68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41B777-A87A-458A-BCD6-A5B001B05F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1021D3-1F5C-4CA4-9507-ACAE64066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7BF00-A4EC-4ADC-8EEB-A05F53761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A0171E-0C5A-4E29-954E-90407346B6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7841EF-0EA7-40A8-9C13-2A565CBC95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67FCDA-C2F4-4609-B01A-29E9B8BBEE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D3D594-EBF3-4937-8CCF-FC72607846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BC70B7-47DE-40C8-8987-8A57AA3F07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4DB19F-49A7-4980-BB81-150C094BDE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5C8D19-1224-4C7B-ABFD-D18FC570DE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DA96F2-2F6B-4EDA-AF6A-1BEAA845DC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BF9B47-F36A-44FB-89F6-0157593991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337207-55AF-4CFA-963C-52ECF24A67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02E33-FFCF-4863-BCD7-EA566B57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39E70F-A4E5-477A-B45E-E9FCE84680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382FB-821B-4EA5-8DA6-E7996730BE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8EAF47-82A6-4313-9B87-4D9BE24645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3899A5-6993-4330-819D-8E2FFC81C4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A8F900-D01C-4EA9-B098-76973865F3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6EA060-54CB-4249-9C22-983DC2D6DE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982989-C49D-4FB1-8FA0-B09D5DB3D9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3BB757-BABB-474A-8554-F734A9A82C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4275EB-4DF1-43FF-8976-5F9060987F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9A53C4-A329-4F39-B2DD-80AACEFFFA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9579C-7ADC-4E8B-B217-031110658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635251-252F-4A6F-A30F-78E1FD2D58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939161-1687-4B95-BDF9-B1A2CCFB60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B82C0E-A323-4920-A590-BDC60D4F33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D0C662-76FA-4F0E-8BAC-E09E0B7935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CDADA2-D7CE-461D-B860-51C4AFBE75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D631B6-790F-4737-A200-F399232BCC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315969-A363-4820-BAFB-B41A21BB1B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D8F5C-0FE7-4AA8-BD65-66F52803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857B-2A5A-4DE7-8D18-94E35D3A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6E575-4237-4DEE-97F4-31CA1CCE3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E7F71-A375-470A-9751-3AFA8CF6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7BF0-DA0E-4F01-AFBD-DF87605F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DB94-85A0-4957-8B79-94964CF3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37F1-35C0-4604-9644-6CEC2B2F7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CE6EB-789D-4743-8F1C-15A02F1AE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34A66-1A2A-47C3-868E-B2E2BE4E0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3DD35-FCE1-49A9-B4E5-487468AA6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A6912-E0AF-4E9B-A3FC-679865732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4BD8D-E43D-493A-9C15-474A90EFD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EB34E-7041-4CB7-B271-F4817243F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93C2F-EE62-4CA6-93F3-75146ACA3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F13DF-F9E1-47BB-8EBA-4309D8C5F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6D51D-6401-4C5D-B71B-3F09D1C9F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AC19-8518-4CD4-9A5A-B6B20D357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533C6-4534-40BD-B2D9-2BBC7E931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39CCC-0418-4181-8A4B-58007AB06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4187C-8C40-4FD9-844F-A960D9B68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80688-1CEC-4169-946D-8603CDB42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C4642F-A359-4FEB-A454-D587A5ECA9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E7ADA-B780-49A9-AF16-1DD2C82D4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633DE-7C95-47F7-AE1F-CD2F16458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95C36-5626-4938-AF3F-79B8D5976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08D5F-F2A0-47E0-885C-631C9DBDD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50C1C-3795-4812-B967-4358500DB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BBDC4-EE88-4A9F-B95F-E877D2DCE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D9ABB-1816-4577-8C7A-9A2E7DCE5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287CE-CEE9-4A59-96C0-9C225CA9C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0FE15-7901-491E-A0F2-14B1EC3AB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1D0874-071D-41D9-9D2D-C4E43A4AD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52C99-FB8C-4FA2-B1E6-7460CAA3A3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B5D894-8453-4BDE-87C4-77635A68F5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5B7E6-144D-4008-A37E-06B2471BB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7D1FF-4450-4C30-9FCC-FDF0F2216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DE8DB-719A-44D0-A756-4FA102CF6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F9031-6128-4CD0-9255-107CA01E9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BF01C-A2C4-4B43-AFB9-D39AC5BA6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882AD-51B3-4AFD-B10E-CA59C4065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CF618-0B72-49FC-A2DC-1A3FEBCA9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D62C4-2715-4C08-9DA8-A9805FE198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68F4C-3C59-493E-8A68-D6D79049B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B1EB2-6A84-4801-ABCD-4323DCA6DB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F16EFF-2228-4B29-ADA1-1EAAABBB24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238E88-4E05-4539-8F20-DDEB7DADA9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BF9D48-EF4A-44F9-B50C-D5C569DCE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9A8AF-8910-45B8-A1D6-5ADBE4406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8DCD8-6EA1-4AA5-A8CB-EC8E5FF0A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FD891-DB1D-4A26-94AB-C5FDDA058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F7E5A-8A81-4C31-A363-01F2F080C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97877-9B73-4206-A3E6-426D14980D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C129C-A0CF-491A-97CF-C6BCDCC4D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4BDB7-EA9A-437F-B889-C6F8CE495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0453F-6D0D-4788-BF70-736B963A0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141911-3414-47CF-88C0-06F0B23468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A17142-66AF-442D-88BD-1CE248C6D9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CA2EA8-619F-4604-BE19-C3177EA2FA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990D21-455A-4974-93A8-8259AD3CE5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24528-922D-4ABE-A506-5EB7C904A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A41E1-B094-4FFB-AD27-4D5CB8A15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885A0-FFC7-439E-8CFD-67AFD13387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C05C7-32E3-41F4-82B5-AF11348C33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A2B88-8A2B-4635-BC3C-478127458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F1581-DF54-400C-8CD6-091201D85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235845-9B40-4568-89B7-AA38492722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EBCB6-5EAD-4B2A-9821-E1F507835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4FC38B-3FAE-49EC-B316-D96DD5047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8945F5-6911-414D-97BA-56AA4DD4BF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87B8BF-0EFB-4841-BF73-B3AEDC9F92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E472D-4690-48A7-9640-7AB620B60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64438-CC12-4896-ACFE-C9C09D7CD4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0AA15-77E8-4B0D-888B-F6D8771D11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639F7-1953-4528-ABF8-F780E6E34E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4058E2-32D5-4F6B-811C-9F9FE8A3C6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32834-19A8-4F56-A1A9-C5C649850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E8B16-1230-4B46-B276-F3EAA0EBB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4BAA4-BDB5-4E8E-99A7-ED43996B0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3ABC2-18BE-42AD-AF9B-3B0EADA57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933DA3-41F9-498B-B0FB-FD9F4DECF3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ACA554-380A-4720-B1D4-3673FEB4F7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C6CC0A-E8CE-4B88-8205-D0277E05D7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2EDF0A-8068-4D50-8B8A-2A6325D2D4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28A7C9-0955-4023-8CB8-AD81FFF3F0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7E22-9481-4415-AC1A-4ED07C98098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6BB2-27E6-4C70-953E-074C31CA27EF}"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826B-E6CA-4E7A-859F-F0BA49F848E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B343-9154-44A6-AF1A-9662E2404CE2}"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E0C1-0F79-4D6E-BA09-92A8C1A71362}"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FB50-25D1-42BB-ADDA-9B95ABAC80CF}"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AD90-387A-4462-A9D5-08FF029BFDF7}"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06AE-C1E2-43CF-B7A1-A9706D8EA9FA}"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31DF-2B1B-447D-850A-7C562B7C0EB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60E6-6A7B-448E-9787-7AD6BCE35F04}"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ECEC-2F87-4FFB-89BE-62D66BB7070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3.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1.png"/><Relationship Id="rId3" Type="http://schemas.openxmlformats.org/officeDocument/2006/relationships/image" Target="../media/image74.jpeg"/><Relationship Id="rId4"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07220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50028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73 Conector recto"/>
          <p:cNvSpPr/>
          <p:nvPr/>
        </p:nvSpPr>
        <p:spPr>
          <a:xfrm flipH="1">
            <a:off x="5428800" y="2786040"/>
            <a:ext cx="1800" cy="7873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9" name="81 Conector recto"/>
          <p:cNvSpPr/>
          <p:nvPr/>
        </p:nvSpPr>
        <p:spPr>
          <a:xfrm>
            <a:off x="4286160" y="3357720"/>
            <a:ext cx="27860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20"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1"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2"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3"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6" name="100 Forma"/>
          <p:cNvCxnSpPr/>
          <p:nvPr/>
        </p:nvCxnSpPr>
        <p:spPr>
          <a:xfrm rot="5400000">
            <a:off x="5982480" y="4303440"/>
            <a:ext cx="72000" cy="1180440"/>
          </a:xfrm>
          <a:prstGeom prst="bentConnector2">
            <a:avLst/>
          </a:prstGeom>
          <a:ln w="9360">
            <a:solidFill>
              <a:srgbClr val="92e852"/>
            </a:solidFill>
            <a:miter/>
          </a:ln>
        </p:spPr>
      </p:cxnSp>
      <p:cxnSp>
        <p:nvCxnSpPr>
          <p:cNvPr id="727"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8"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9"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30"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1"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2"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3"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4"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5"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6"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7"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8"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9"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40"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1"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2"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3"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4"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5"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6"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7"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8"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9"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50"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1"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2"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3"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4"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5"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6"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7"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8"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1 Rectángulo" descr=""/>
          <p:cNvPicPr/>
          <p:nvPr/>
        </p:nvPicPr>
        <p:blipFill>
          <a:blip r:embed="rId1"/>
          <a:stretch/>
        </p:blipFill>
        <p:spPr>
          <a:xfrm>
            <a:off x="3981600" y="1255680"/>
            <a:ext cx="3814560" cy="536760"/>
          </a:xfrm>
          <a:prstGeom prst="rect">
            <a:avLst/>
          </a:prstGeom>
          <a:ln w="0">
            <a:noFill/>
          </a:ln>
        </p:spPr>
      </p:pic>
      <p:sp>
        <p:nvSpPr>
          <p:cNvPr id="760"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1" name="3 Imagen" descr="1798656186_36cdb6abae.jpg"/>
          <p:cNvPicPr/>
          <p:nvPr/>
        </p:nvPicPr>
        <p:blipFill>
          <a:blip r:embed="rId2"/>
          <a:stretch/>
        </p:blipFill>
        <p:spPr>
          <a:xfrm>
            <a:off x="3714840" y="3929040"/>
            <a:ext cx="4286160" cy="2049480"/>
          </a:xfrm>
          <a:prstGeom prst="rect">
            <a:avLst/>
          </a:prstGeom>
          <a:ln w="0">
            <a:noFill/>
          </a:ln>
        </p:spPr>
      </p:pic>
      <p:pic>
        <p:nvPicPr>
          <p:cNvPr id="762"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1 Rectángulo" descr=""/>
          <p:cNvPicPr/>
          <p:nvPr/>
        </p:nvPicPr>
        <p:blipFill>
          <a:blip r:embed="rId1"/>
          <a:stretch/>
        </p:blipFill>
        <p:spPr>
          <a:xfrm>
            <a:off x="3981600" y="1255680"/>
            <a:ext cx="3814560" cy="536760"/>
          </a:xfrm>
          <a:prstGeom prst="rect">
            <a:avLst/>
          </a:prstGeom>
          <a:ln w="0">
            <a:noFill/>
          </a:ln>
        </p:spPr>
      </p:pic>
      <p:pic>
        <p:nvPicPr>
          <p:cNvPr id="764" name="2 Rectángulo" descr=""/>
          <p:cNvPicPr/>
          <p:nvPr/>
        </p:nvPicPr>
        <p:blipFill>
          <a:blip r:embed="rId2"/>
          <a:stretch/>
        </p:blipFill>
        <p:spPr>
          <a:xfrm>
            <a:off x="2541600" y="6181560"/>
            <a:ext cx="1646280" cy="384480"/>
          </a:xfrm>
          <a:prstGeom prst="rect">
            <a:avLst/>
          </a:prstGeom>
          <a:ln w="0">
            <a:noFill/>
          </a:ln>
        </p:spPr>
      </p:pic>
      <p:sp>
        <p:nvSpPr>
          <p:cNvPr id="765"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6"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1 Rectángulo" descr=""/>
          <p:cNvPicPr/>
          <p:nvPr/>
        </p:nvPicPr>
        <p:blipFill>
          <a:blip r:embed="rId1"/>
          <a:stretch/>
        </p:blipFill>
        <p:spPr>
          <a:xfrm>
            <a:off x="3981600" y="1255680"/>
            <a:ext cx="3814560" cy="536760"/>
          </a:xfrm>
          <a:prstGeom prst="rect">
            <a:avLst/>
          </a:prstGeom>
          <a:ln w="0">
            <a:noFill/>
          </a:ln>
        </p:spPr>
      </p:pic>
      <p:pic>
        <p:nvPicPr>
          <p:cNvPr id="768" name="2 Rectángulo" descr=""/>
          <p:cNvPicPr/>
          <p:nvPr/>
        </p:nvPicPr>
        <p:blipFill>
          <a:blip r:embed="rId2"/>
          <a:stretch/>
        </p:blipFill>
        <p:spPr>
          <a:xfrm>
            <a:off x="2610000" y="6108840"/>
            <a:ext cx="1644480" cy="384120"/>
          </a:xfrm>
          <a:prstGeom prst="rect">
            <a:avLst/>
          </a:prstGeom>
          <a:ln w="0">
            <a:noFill/>
          </a:ln>
        </p:spPr>
      </p:pic>
      <p:sp>
        <p:nvSpPr>
          <p:cNvPr id="769" name="3 CuadroTexto"/>
          <p:cNvSpPr/>
          <p:nvPr/>
        </p:nvSpPr>
        <p:spPr>
          <a:xfrm>
            <a:off x="2786040" y="2000160"/>
            <a:ext cx="550080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enior</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1 Rectángulo" descr=""/>
          <p:cNvPicPr/>
          <p:nvPr/>
        </p:nvPicPr>
        <p:blipFill>
          <a:blip r:embed="rId1"/>
          <a:stretch/>
        </p:blipFill>
        <p:spPr>
          <a:xfrm>
            <a:off x="3981600" y="1255680"/>
            <a:ext cx="3814560" cy="536760"/>
          </a:xfrm>
          <a:prstGeom prst="rect">
            <a:avLst/>
          </a:prstGeom>
          <a:ln w="0">
            <a:noFill/>
          </a:ln>
        </p:spPr>
      </p:pic>
      <p:pic>
        <p:nvPicPr>
          <p:cNvPr id="771" name="2 Rectángulo" descr=""/>
          <p:cNvPicPr/>
          <p:nvPr/>
        </p:nvPicPr>
        <p:blipFill>
          <a:blip r:embed="rId2"/>
          <a:stretch/>
        </p:blipFill>
        <p:spPr>
          <a:xfrm>
            <a:off x="2541600" y="6181560"/>
            <a:ext cx="1646280" cy="384480"/>
          </a:xfrm>
          <a:prstGeom prst="rect">
            <a:avLst/>
          </a:prstGeom>
          <a:ln w="0">
            <a:noFill/>
          </a:ln>
        </p:spPr>
      </p:pic>
      <p:sp>
        <p:nvSpPr>
          <p:cNvPr id="772"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3"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4-28T18:40:04Z</dcterms:modified>
  <cp:revision>90</cp:revision>
  <dc:subject/>
  <dc:title>Diapositiva 1</dc:title>
</cp:coreProperties>
</file>